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D2C-FDEB-43AB-AD20-5D30C18A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5FD-286D-45EC-9C0F-3018890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101-BD99-4C56-9797-D316968A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34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66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34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66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8E2-BBC6-4395-8E39-5EB3C51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F3E-D33B-4E79-B75E-FDB14D41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734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46600" y="16002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6002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734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46600" y="402840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01D-FEE4-4042-8A24-5480A9C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A78-1727-4A9C-AE8D-42FFD73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2E7-036E-40E0-AABE-A2529364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660-5D4D-4B03-A646-3C558C1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F1E-59C5-43D5-A71F-2D91D38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8880" y="40284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9B5-85FB-447F-B71B-94BE20C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8880" y="160020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2840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25F-694D-4B1D-875A-CB2A2BE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9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32412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324120"/>
            <a:ext cx="1371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B351-79ED-4D91-ADF9-81F45F3C9052}" type="slidenum"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343400" y="5638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304920"/>
            <a:ext cx="4648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veloping the power sector in Federal Nepal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in lessons from international experienc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400" y="53337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athmandu, November 06, 2018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419720" y="3581280"/>
            <a:ext cx="4647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Three pillars to be addressed to achieve sustainable good performance of the power sector in an emerging country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ystematic optimized (least-cost) planning and implementation of investments in all segments of the supply chai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’s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 to address security of supply in a context of growing dem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pecific approach is needed for electrification to move towards universal acces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fficient operational performance of service providers (utilities) in all business areas: electricity supply, commercial functions, management of corporate resour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ity sector exists to serve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nancial sustainability: revenues (tariff + subsidies) allowing recovery of costs of efficient service delivery 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iff revenues allocated among categories of consumers (tariff charges) to recover costs incurred for efficient service provi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afety net” to protect low-income users unable to pay cost-reflective charges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Adequacy of institutional and organizational arrangements should be assessed considering the key matters above  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4A9-C336-414B-84AF-AAC7451DEFD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mized (least-cost) planning and implementation of investment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646200" y="1341360"/>
            <a:ext cx="8272440" cy="49071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E15-4FF8-4159-ADFF-6555DF09D17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mized (least-cost) planning and implementation of investment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ffective implementation of the outcomes of the LCPDP through competitive procurement processes: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ly by service utilities (mainly investments in network extension, rehabilitation and upgrade), using the most convenient financing arrangements available to the country (grants, concessional loans from development partn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new agents (competition FOR the marke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dependent power producers (IPPs) for new electricity generation proje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cial-purpose companies (transmission service providers) for construction and operation of new transmissio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ng term contracts (power purchase and transmission service agreements) signed with distribution and retail ut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4B2-C71F-4F58-82E4-0D2DDC6D617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fficient operational performance of the service providers (utilitie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Efficient operational performance means: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service provided to customers in full compliance with applicable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amounts of energy being consumed are permanently billed and col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s incurred reflect efficiency in operations in all business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Comprehensive experience in developing countries in successful improvement of operational performance of service utilities in the electricity sector under all types of sector structures and ownership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ly integrated state-owned enterprises; unbundled sectors with mixed ownership (private and state-owned companies) in distribution and retail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and without independent regulato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Improvement of performance requires the definition and effective implementation of Performance Improvement Plans (PIPs) addressing operations in all business areas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2037-AE1B-49C3-B06E-DE828D584FE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areas usually addressed in Performance Improvement Plans (PIP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Definition and implementation of an adequate organizational structure including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functions and responsibilities of positions at all levels, skills required for each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and transparent selection of staff to occupy positions at all levels. Training to strengthen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Incorporation of management information systems (MIS) to make more efficient, transparent and accountable the development of processes and activities in al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and maintenance (O&amp;M) of assets for service delivery and attending customers’ claims; commercial functions; management of  corporate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25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030a0"/>
                </a:solidFill>
                <a:latin typeface="Arial"/>
              </a:rPr>
              <a:t>Development of local capacity: the well-performing performing utilities are run by local management teams with the right technical and ethics skills, using adequate supporting tools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0061-550F-4A05-8756-FE42CB9DB5C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sustainabil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should allow operating companies to permanently collect revenues needed to recover costs of efficient service provis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low-income countries, tariff revenues could be set initially to recover all operating costs (including PPAs, TSAs, financing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venues should be allocated among categories of consumers (tariff charges) to recover costs incurred for efficient service provision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equacy of tariff structure should be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“social safety net” protecting only low-income users unable to pay cost-reflective tariff rates should be designed and put in 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ed using cross-tariff subsidization or external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ost regressive subsidization is that from low-income people (sometimes not having access to electricity service) to electricity consumers able to pay cost-reflective rates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D96-AB75-4429-A795-71BB9ED8FF9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sustainabil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should be issued and systematically applied within a framework of full transparency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consultation and public hearing processes should be adopted in all cases (transparency cannot exist without publicity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iff regulations must be complemented by others on quality of service received by electricity consumer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forcement of regulations on quality of service requires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s to systematically record and monitor key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spcAft>
                <a:spcPts val="1199"/>
              </a:spcAft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of penalties (payments made to affected consumers) in cases of non-compliance </a:t>
            </a: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543800" y="6324480"/>
            <a:ext cx="137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CA72-83CD-4C3C-894F-F0A553B6489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17524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Thank you!</a:t>
            </a:r>
            <a:endParaRPr b="1" lang="en-US" sz="5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343400" y="5410080"/>
            <a:ext cx="46483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419720" y="3581280"/>
            <a:ext cx="4647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5:48Z</dcterms:created>
  <dc:creator>wb247767</dc:creator>
  <dc:description/>
  <dc:language>en-US</dc:language>
  <cp:lastModifiedBy>Pedro Antmann</cp:lastModifiedBy>
  <dcterms:modified xsi:type="dcterms:W3CDTF">2018-11-06T00:42:19Z</dcterms:modified>
  <cp:revision>649</cp:revision>
  <dc:subject/>
  <dc:title>ЗАКУПКА КОНСУЛЬТАЦИОННЫХ УСЛУГ</dc:title>
</cp:coreProperties>
</file>